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7E01A-38B5-457F-A4C9-1FD469A61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36F75-FBCA-4D3E-82B9-7A444B56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ACF6C-BB9D-4366-9EAB-294AA3E16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A63B6-EFA0-4FE4-9699-1ECB20F6C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8389-FE6E-449A-ACB5-177CBFC21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B960-1344-40E5-B8DB-E02455F9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5B517-7AD1-4D51-B60E-57CB66DC7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8967-EC66-48B3-9F41-9B7ECEE9E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2287F-6050-40C1-AB86-9255A8542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DB74-A1B1-4099-882C-9FACC870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534F7-EBDC-4168-B7A3-143DDF7F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880C-FA7A-4690-8C7C-AFE3F0262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CC37-1082-4F64-B936-1A322D2740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341360" y="324000"/>
            <a:ext cx="48960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Università degli Studi “G. d’Annunzi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Chieti – Pescar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PARTIMENTO DI FARMACIA</a:t>
            </a:r>
            <a:endParaRPr b="0" lang="en-US" sz="1800" spc="-1" strike="noStrike">
              <a:solidFill>
                <a:srgbClr val="000000"/>
              </a:solidFill>
              <a:latin typeface="Arial"/>
            </a:endParaRPr>
          </a:p>
        </p:txBody>
      </p:sp>
      <p:pic>
        <p:nvPicPr>
          <p:cNvPr id="42" name="Picture 5" descr="Senza titolo-3 copia"/>
          <p:cNvPicPr/>
          <p:nvPr/>
        </p:nvPicPr>
        <p:blipFill>
          <a:blip r:embed="rId1"/>
          <a:stretch/>
        </p:blipFill>
        <p:spPr>
          <a:xfrm>
            <a:off x="44280" y="36360"/>
            <a:ext cx="1295640" cy="1295640"/>
          </a:xfrm>
          <a:prstGeom prst="rect">
            <a:avLst/>
          </a:prstGeom>
          <a:ln w="0">
            <a:noFill/>
          </a:ln>
        </p:spPr>
      </p:pic>
      <p:sp>
        <p:nvSpPr>
          <p:cNvPr id="43" name="Text Box 6"/>
          <p:cNvSpPr/>
          <p:nvPr/>
        </p:nvSpPr>
        <p:spPr>
          <a:xfrm>
            <a:off x="2708280" y="1187280"/>
            <a:ext cx="28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Text Box 7"/>
          <p:cNvSpPr/>
          <p:nvPr/>
        </p:nvSpPr>
        <p:spPr>
          <a:xfrm>
            <a:off x="1846440" y="1455840"/>
            <a:ext cx="388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   </a:t>
            </a:r>
            <a:r>
              <a:rPr b="0" lang="it-IT" sz="1200" spc="-1" strike="noStrike">
                <a:solidFill>
                  <a:srgbClr val="333399"/>
                </a:solidFill>
                <a:latin typeface="Arial"/>
              </a:rPr>
              <a:t>Cattedra di Anatomia Umana</a:t>
            </a:r>
            <a:endParaRPr b="0" lang="en-US" sz="1200" spc="-1" strike="noStrike">
              <a:solidFill>
                <a:srgbClr val="000000"/>
              </a:solidFill>
              <a:latin typeface="Arial"/>
            </a:endParaRPr>
          </a:p>
        </p:txBody>
      </p:sp>
      <p:sp>
        <p:nvSpPr>
          <p:cNvPr id="45" name="Text Box 12"/>
          <p:cNvSpPr/>
          <p:nvPr/>
        </p:nvSpPr>
        <p:spPr>
          <a:xfrm>
            <a:off x="673200" y="3419640"/>
            <a:ext cx="268200" cy="2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CasellaDiTesto 1"/>
          <p:cNvSpPr/>
          <p:nvPr/>
        </p:nvSpPr>
        <p:spPr>
          <a:xfrm>
            <a:off x="422280" y="1893960"/>
            <a:ext cx="5815080" cy="63712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giorno 19 luglio 2016 alle ore 12.30 presso la Sala Consiliare del Dipartimento, su convocazione della Presidente del CdS in Farmacia, si sono riuniti i professori Brunetti,  Cellini, Del Boccio, De Lellis, Di Giovanni, Grande, Leone, Orlando, Patruno, Recinella, Zara per discutere di una “eventuale revisione del core curriculum del corso di studio” e di ”una maggiore interazione docenti-studenti”.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 è ribadita la necessità di identificare per ciascun insegnamento argomenti imprescindibili e di connessione con gli insegnamenti successivi.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la richiesta da parte degli studenti di implementare il materiale didattico disponibile on line c’è stato il suggerimento del Prof. Del Boccio che ha parlato di una piattaforma MOODLE utile non solo per la pubblicazione di materiale didattico ma anche per stabilire un rapporto interattivo con gli studenti. A tale proposito la prof. Cellini si è fatta carico di invitare il responsabile WEB di Ateneo Enrico Palmerini affinchè presenti ai docenti tale sistema informatico e lo attivi per tutti.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Prof. Cellini, al fine di stimolare l’interesse degli studenti ai vari insegnamenti, ha suggerito ai colleghi, sulla base della propria esperienza, di individuare alcuni argomenti da affidare agli studenti per l’approfondimento e la presentazione in aula con la possibilità di aumentare il voto di profitto di 1 o 2 punt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 è anche parlato di analizzare  in un prossimo CCdS la scheda di valutazione del Corso e di suggerire ai singoli docenti di rivederla in aula con gli studenti dall’inizio del corso in modo da rilevare eventuali criticità.</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le ore 14.00 la riunione si è sciolt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hieti 21 luglio 2016</a:t>
            </a:r>
            <a:endParaRPr b="0" lang="en-US" sz="1400" spc="-1" strike="noStrike">
              <a:solidFill>
                <a:srgbClr val="000000"/>
              </a:solidFill>
              <a:latin typeface="Arial"/>
            </a:endParaRPr>
          </a:p>
          <a:p>
            <a:pPr algn="just">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Rettangolo 1"/>
          <p:cNvSpPr/>
          <p:nvPr/>
        </p:nvSpPr>
        <p:spPr>
          <a:xfrm>
            <a:off x="858960" y="1685880"/>
            <a:ext cx="5522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4:19:14Z</dcterms:created>
  <dc:creator>v.digiacomo</dc:creator>
  <dc:description/>
  <dc:language>en-US</dc:language>
  <cp:lastModifiedBy>Cataldi</cp:lastModifiedBy>
  <cp:lastPrinted>2016-07-21T11:00:14Z</cp:lastPrinted>
  <dcterms:modified xsi:type="dcterms:W3CDTF">2016-11-02T13:49:27Z</dcterms:modified>
  <cp:revision>61</cp:revision>
  <dc:subject/>
  <dc:title>Diapositiva 1</dc:title>
</cp:coreProperties>
</file>